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er to peer and teacher to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facilitating and one recording collecting spontaneously what we do ourselves as providing responding to students in the mo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to lesson 4  patterning and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ght we should do one as an example just to make sure that everybody knew what was going on (I hate to model but I think it’s needed...what do you all think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ED2B-849E-43E8-9F81-87C61551A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8413-DC7B-439E-B70D-7F216D6BD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A8A9-421F-4D06-81D3-A73BBCD1E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C45A-B4E7-409F-A475-2FC4243FF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57AE-4382-4B73-8E92-431AE0F50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C5F3-B464-4E19-866D-93B2494EC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5F51-E79A-4ECC-9917-766132230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8226-6EEE-4FDA-BD83-7E31B6AB0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1295-AA2F-45DF-A846-B9771546E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1EEC-88E2-4960-B9F6-005BEA935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BBE1-2069-48A8-8544-DF1FC5F0F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7CF6-B03C-4BF6-BECB-7238FB265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30E-CC50-4823-A91E-0F5A72C804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AF17-5282-492A-8792-FF3C8BBF2C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were saying to your partner while walking around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Telling?  Showing?  Guiding?  Questioning?  Wa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have enough think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lse do we respond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8F1F-5CB1-4991-837A-27B68CCF3A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Beach Images\Beach &amp; Water (K - P)\Life Preserver 04.wmf"/>
          <p:cNvPicPr/>
          <p:nvPr/>
        </p:nvPicPr>
        <p:blipFill>
          <a:blip r:embed="rId2"/>
          <a:stretch/>
        </p:blipFill>
        <p:spPr>
          <a:xfrm>
            <a:off x="6961320" y="2971800"/>
            <a:ext cx="21826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Secret Ru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you will be getting a new secret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will create a tile representation (one colour only this time) of the pattern rule (but none of you can have the same geometric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359-E33F-46C9-BB62-5F1B99D1B3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find the other table who had the same pattern rul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anybody at the other table have the same geometric design you h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choose a different table and find the other table that had the same rule.  Did their designs look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F611-6FEA-4BFB-B4E8-F11CF9EBB3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aving only 1 colour make it more difficult to find your table matc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might have made it more difficult to find your matching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13A6-CE67-445E-99B1-6BA7ED606D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purpose of this activity would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69BC-1C59-4236-AF12-3DE19BD0C4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nly position #2, determine my pattern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ome individual think time, share as a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3AC-9045-4F4A-BA9F-A770CDBD6D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80988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11480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80988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11480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4197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5053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80988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11480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86200" y="2971800"/>
            <a:ext cx="434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came out of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is problem further our goal to discuss the big idea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F1D-CDBD-40DA-95BB-5E47B419A9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if tim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think you’re ready to try and trick each other a b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3008-BF22-46D9-9C11-B836815FD7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short video of a Grade 7 class participating in a simila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multiplicative thinking and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eachers are responding to the students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E73F-462E-40DC-9221-99EE23030C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Discuss at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evidence of multiplicative thinking and generaliz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eachers responding to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r first thou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 students engaged in the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4381-97B9-4C7E-B6B1-99E8EAB94F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058-B757-40BD-903C-4709E295E5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C - G)\Diving In 12.wmf"/>
          <p:cNvPicPr/>
          <p:nvPr/>
        </p:nvPicPr>
        <p:blipFill>
          <a:blip r:embed="rId1"/>
          <a:stretch/>
        </p:blipFill>
        <p:spPr>
          <a:xfrm>
            <a:off x="3581280" y="1676520"/>
            <a:ext cx="2551320" cy="32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5B6-3679-46C4-A465-05CD1A554D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52A2-6561-4EC4-9F62-D711850CEB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EDBB-5063-486D-BE1B-94F38FCB9D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the ex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how you’re feeling about P&amp;A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72F-024B-441D-8567-0817F4DD7D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ntrance Card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mplete the following entranc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terested to hear how you’re feeling about Patterning &amp; Algebra after the first 2 Plenary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8E3-EBB9-48E9-87DF-F40C0F4385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Rule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you will be 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ret patter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Tiles (use 2 col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lour tiles to create 1 tile representation of the secret pattern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F01-D6C0-4DE0-B7FE-5CBE3FE560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CCB4-3410-43E1-9711-9741FF0AAC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002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3526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952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07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5760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65760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81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65760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65760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32448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3244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324480" y="17524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3244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32448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12193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3581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6248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         +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2388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9343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6294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410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50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199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67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625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952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3244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5760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8088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324480" y="3581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e your Patterns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05EC-3F5B-48D8-A143-0BB57E2B5C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676520"/>
            <a:ext cx="35895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alk around and determine the secret rules of the different representation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pattern rules on your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F626-9B9F-4562-AE6D-D7D79534A3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tterns did you have a hard time figuring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2 colours help you se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visual representation allow you to determin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feedback about this activ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F295-6E18-43A2-A284-DED90BFE14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2 Big Ideas in P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these big ideas brought out in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2EF0-BA5C-4CC1-B1FA-020A416CBB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05T17:26:31Z</dcterms:modified>
  <cp:revision>66</cp:revision>
  <dc:subject/>
  <dc:title>&lt;Title&gt;</dc:title>
</cp:coreProperties>
</file>